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8"/>
          </p:nvPr>
        </p:nvSpPr>
        <p:spPr>
          <a:xfrm>
            <a:off x="-3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9"/>
          </p:nvPr>
        </p:nvSpPr>
        <p:spPr>
          <a:xfrm>
            <a:off x="393660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D25-39ED-4822-8C87-E0C248B2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9631-899B-4AD9-B9B0-D25DD03DF686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FA23-3D0C-479B-A4E6-3385056ED8A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3CA2-835E-446C-A55A-878BB093A59D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63E7-F40F-4442-ADCA-E7C4C6FB5FF9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FC6-E8A7-4618-BA88-2F2B6CD9F43D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1E5D-97A9-4C19-866B-24DFC5E3779B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7D5-E85E-4E7C-9CC0-2464ED944C53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CF2-7DD2-403F-9195-0E3B3FDA0A33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431-796D-4267-B9F7-4968D37C8598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FD5-C1FB-4336-AA9D-26E2AC8FE5CF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B25-B3A7-43D5-93C4-0AE226DCFE5B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DCD1-13CC-400F-9A64-083F16763464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BD3B-8F67-4692-944F-FBEC32E32251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61E-7874-42D4-908F-DAFF00855983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486-3162-4220-95EC-AE6D5E4E1433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459-8ACA-44BC-A567-C43E28A2AB76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AB4-C4A0-4077-ADC8-F53B00262294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866-7CB4-4773-A526-678681F285D3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007-87EC-41D9-AF83-6D333B0C87E0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625-6137-4BD0-9EDE-AF0987689F92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32A-1CD5-4D3F-BBBB-FA5C2E55623C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BAD-208B-4349-BD03-9E0B409B3051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9E45-BCA3-41EB-B3C6-8FCFFB4BB008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179-CEA7-4266-BF0E-50C65DFF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38A-C9C8-4D9E-AAB2-3B547A0D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7E96C-E462-406D-82BD-A5F7D884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89CE-D9CE-42BB-8399-4C801E5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CB41B-EFB8-4D1D-8267-A8B236D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F40AA-B35C-47C4-8F4D-1295499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6CB6-CED5-478A-956B-9D7B41B8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D3AE1-00E5-4AFA-BB23-7CEABCD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8B022-743A-4E2E-909C-EAAFBE3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026F8-C824-47BA-A2C1-CA2AF5B1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339BC-7C60-4823-88AC-2F10E3CE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375D1-D030-4CB8-A71A-E2403A73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0E4-7F6A-44B1-8B35-4AB94519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EB1E8-8D56-4DBA-94B3-B149827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0C289-D14B-45C1-998C-C9E35F9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50D3E-C2ED-4957-ADC9-A0CFE19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2B437-8197-4BE7-9009-B4BA2C49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34811-BFC6-4581-A137-A16D1A2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3995C-1750-47E1-A239-EBE3D33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A1E3-0284-4078-9EB3-8E0E059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D1E6B-2BBD-445C-9946-4CF5CCF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3B4D2-69E1-48A7-ADA2-01FFFD5E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4D50E-210F-4605-991B-4B92965A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FC5-9FEB-462C-936A-FEAA715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D3EAA-4E60-4E07-B48F-938200A4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D3A12-2E64-4A16-934B-90C71F4C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3A1E-A39C-456B-AEA9-F329049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2E8C7-EC37-403E-ADF0-483753C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2B12E-39C5-4ECC-83C1-3B3AB55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171AB-3DA9-4161-82CB-A8397D9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EF7E-C30F-4207-8A53-9CA957E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3955A-5C89-4E6C-9EEA-994ABBD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FE46-6FE3-4F07-9E1B-952ECAE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6675-0DDA-444F-9CF1-44EDF4A3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21C-8ED0-442A-953A-A55B2E23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CF5B-F738-4AA9-9C6F-AC999D83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36BE5-AD0A-496E-B5B6-4D8F4D1C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B329F-66F0-49AC-90AB-45838D93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AEF8A-A4AC-4BE8-9553-ED2C5054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AD683-87C7-441F-B9CF-F4521AA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DD1D1-D40D-43F5-85C8-E46F4D9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11B61-9E3E-42E0-A356-F623CC4B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FAB24-73D2-4B4C-A4F5-F0CCBE10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ABCB2-972A-45F0-BC43-FB96530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FA503-C330-4E19-A8AA-41636A1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579B-9C42-48FF-BB4B-5F6230E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C8979-C498-45DB-8C77-36C9D8A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3850E-437B-43BD-935F-5BB7D47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B08BA-39B4-47CE-9472-47225BD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54D52-F25F-4D31-A8BC-693F2F3D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1E4FC-F08C-42E6-9881-97084E80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99F-0186-4D2F-87C0-94E80E96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0E2-033D-4ECD-8DE4-13BEE5A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0222-F518-49B8-A2F0-C5920AA2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560-272C-4F0D-929E-544F406E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322-8091-4E5A-8AFC-EA1E9ED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96D-2577-4865-A0CD-7B2B287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2AFC-BDEB-4AF5-897E-78D20F3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509-D191-4213-9F99-19600D77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D052-BD22-4A9E-87DD-65A7DA4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DBBA-E221-4B1F-8290-DE9BC12B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2CC7-489B-4459-A30C-F234FF4A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D065-F4DF-43D0-84D2-47FC2143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8014-9107-4FAC-B0EF-F9FD0EAC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8AB8-8C15-4EA4-9905-60B985D3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BEB7-45B1-40EF-92CE-1303D13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A64D-A57C-41F0-8845-F084290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A54-E6B0-4B18-B234-447AB7B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0C18-CA95-4A94-B893-FE82D462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985F-E2E8-49C7-88C8-1A25D27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426B-B97E-4B85-8A60-69CB72D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B646-58A4-4434-BF40-85690EC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588A-6508-4C15-BD94-067B880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1D92-3AF8-47EC-AE12-49343C94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9010-D5F7-4933-8834-CFC32F85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E041-1C66-449C-8EED-1F92B14D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6EEB-5FFB-428B-9A2F-6A839D2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2CFB-4D45-4DCE-B7F0-89B2478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FC4-534D-459B-95AA-B52C710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1462-E536-4920-B0BD-F8319A4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AC66-FEE7-4D1A-B03F-7410EBB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110DB-9AE2-4B3F-9756-BD6FEF1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D3A3-5429-40DD-956A-98900F8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5750-9E1E-47B3-9AB4-280CF0B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7EB5-83A3-4DD3-8FDB-4FC8324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30AE-059C-4118-9DE8-E8973BA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4415-EFA0-4CD4-A012-761C1DA0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E6FA-0FDB-481D-BDEA-AA4F3555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BD09-78EC-468A-8BC1-D56BA7AE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A37-19EC-4F43-BE16-93BBC248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5EA3-1C16-4616-8DCE-1624412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E169E-C27E-410B-94AB-E0EE8AA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777A-1345-47A0-BA46-4677903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EBD9-4D0E-4E65-981A-4D9DE61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E848-3D7B-4EA3-8FA0-2A8F3075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16AC-51BC-4073-A717-B319FF5C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E094-6B9B-45B0-983A-E275729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CE81A-7FEB-4103-B467-C23D766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79D7-B906-4055-A695-4429230D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2643-3ACA-4A2F-968F-A05880A9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DFB-BDD1-4E0B-8061-CF47B61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01C7-C2CF-4751-B183-7BC89520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21B1-96D0-4BA8-8196-427B0F26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ABCF-834D-4F2F-9E99-8A2C5592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7534-8B7B-42AB-A255-9CD8F87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08164-0FAC-4BD4-A091-7818080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F949-7FE6-4634-8AFE-1DE3BA2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5A90-E0C5-4BA8-BDD2-2D1354F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72F3-C773-4000-B88A-905A438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D3D8-ECF3-4098-B4E7-423A154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4771-DD17-413C-B922-00F2A52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E47-19FA-4037-B1B3-7D98F61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0DC9-ED1D-48F8-83BC-1AE71EB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3EB5-8E74-4237-AAA9-9464D01D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EE41-47B9-4DE3-9663-271791B2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A467-1728-46C5-9399-DEA58ED8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C18C-6732-44B2-B972-DCCE98E7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C954-7DC0-40FA-A396-E79A6E38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9C1A-A5E7-4C44-87E6-B3C77500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458E-3786-468D-B813-3A285F4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EE97-862D-4D68-A0BB-18D61C58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CAFC-9612-4DFD-998F-5138739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9A3-397C-4AD1-96D2-3E8A0F0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F13B-8AF4-482A-8FC9-1FBF07B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4D3B-D6DC-4AB8-A056-EC9882D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4077-690B-42CD-9827-53981C0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F6CF-420E-4304-9CA9-DDF8938A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83F41-90E9-423D-98D7-F1958188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2303-DE44-4423-AFC0-1786918E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474C-7A26-4FED-837C-4B11653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E189-A3AB-4CB8-9A66-286B916B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02A3-9500-48DE-85D1-5D429DA1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D8C8-E8C9-49D2-8373-660E1B60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4DD-ACB0-49AC-938D-FDD180E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C4E7B-6F17-46FA-9374-632A4AE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0540-6FED-489D-92A3-D046ECE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A3409-8276-4BEE-AEF3-BDA5677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BC0F-B0CD-4F6E-B785-E095B23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A22F-E5C4-436B-AB36-60E2C97C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FE263-1C35-401F-9777-2F498A7A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AE14-67C0-4716-81B4-F2BD2305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246AE-1908-4578-92DB-AB42E794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C1A92-13CB-4DE7-B5A5-00C42F0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A3716-3AC0-457F-8252-4F423C4F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C4D-93B1-4FEA-B07B-5C42CE8FE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uncolor"/>
          <p:cNvPicPr/>
          <p:nvPr/>
        </p:nvPicPr>
        <p:blipFill>
          <a:blip r:embed="rId3"/>
          <a:stretch/>
        </p:blipFill>
        <p:spPr>
          <a:xfrm>
            <a:off x="4419720" y="6477120"/>
            <a:ext cx="3524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BA04-EF4A-43C6-94D7-D803CA71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DCE-8A67-42CD-B0CA-92588918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4B1-1B9D-46E5-8B3D-60DD0CCFE76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uncolor"/>
          <p:cNvPicPr/>
          <p:nvPr/>
        </p:nvPicPr>
        <p:blipFill>
          <a:blip r:embed="rId3"/>
          <a:stretch/>
        </p:blipFill>
        <p:spPr>
          <a:xfrm>
            <a:off x="3962520" y="762120"/>
            <a:ext cx="14112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NEFC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6FAB-3082-4E17-874A-640139B1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F0D-1F00-4E51-9E0E-E6BF6CA5D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AC18-9A02-4AE9-9EAE-1968F3B6C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E7D-8633-4733-B096-3DAA9F85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5CC-5038-4D95-A8D3-1AEE578A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B517-F112-4468-8F94-B35D0463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83D-3E84-44F1-9CB4-388533DE8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17B-6D16-4087-8BCC-6DA4A801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Responsive Classroom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114800" y="61722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Responsive Classroo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 Sampl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Presented by: Andrew Mor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1295280" y="3178080"/>
            <a:ext cx="38671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5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eaching Practi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ing Ru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active Model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eacher Langu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ogical Consequenc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losing Circ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uided Discover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ademic Cho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lassroom Organiz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orking with Famili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llaborative Problem-Solv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Oliver Twis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0123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liver twist, twist, twist (hands on hip and twist body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an’t do this, this, this (Tap right foot and shake forefinger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head, head, head (Touch head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nose, nose, nose (Touch nose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ears, ears, ears (Touch ear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toes, toes, toes (Touch toe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haracteristics of </a:t>
            </a:r>
            <a:br>
              <a:rPr sz="4000"/>
            </a:b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Teacher Language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ear, simple, direc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Genuine and respectfu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pecific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cused on actions, not charact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escriptive—Avoids personal judgmen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hows faith in children’s abilities &amp; potentia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ommon Reinforcing Language Pitfall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Voice-over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verly sentimental talk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aming individuals as exampl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escribing behaviors that aren’t yet occurr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ommon Reminding Language Pitfall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arcasm or Teas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anking or Prais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ot watching for Follow-Through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hree R’s of Teacher Langu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28600" y="1600200"/>
          <a:ext cx="8686800" cy="4516560"/>
        </p:xfrm>
        <a:graphic>
          <a:graphicData uri="http://schemas.openxmlformats.org/drawingml/2006/table">
            <a:tbl>
              <a:tblPr/>
              <a:tblGrid>
                <a:gridCol w="2011320"/>
                <a:gridCol w="2332080"/>
                <a:gridCol w="2171880"/>
                <a:gridCol w="2171520"/>
              </a:tblGrid>
              <a:tr h="79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inforc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mind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direct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3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en to use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eacher notices positive effort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1c1c1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Before activity begins 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1c1c1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First sign of misbehavior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tudents clearly off-course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 notice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 see that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How will you…?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mind us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t’s time to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You need to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3 R’s of Teacher Langu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pic>
        <p:nvPicPr>
          <p:cNvPr id="550" name="Content Placeholder 4" descr=""/>
          <p:cNvPicPr/>
          <p:nvPr/>
        </p:nvPicPr>
        <p:blipFill>
          <a:blip r:embed="rId1"/>
          <a:stretch/>
        </p:blipFill>
        <p:spPr>
          <a:xfrm>
            <a:off x="733320" y="1600200"/>
            <a:ext cx="7677360" cy="4525920"/>
          </a:xfrm>
          <a:prstGeom prst="rect">
            <a:avLst/>
          </a:prstGeom>
          <a:ln w="0">
            <a:noFill/>
          </a:ln>
        </p:spPr>
      </p:pic>
      <p:sp>
        <p:nvSpPr>
          <p:cNvPr id="551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Strategies that can Help in Language Change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sten to yourself (or have a colleague/students listen for something)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st replacement words/phras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cus on one phrase at a tim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- Keep it simp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Teacher Language Resource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1c"/>
                </a:solidFill>
                <a:latin typeface="Arial"/>
              </a:rPr>
              <a:t>The Power of Our Word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eacher Language Sheet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ord Card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eacher Language Self-Reflection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at is Interactive Modeling?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chnique for teaching procedures, skills, and routines that the teacher expects to be done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, and only one w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hows students exactly how to do what we expec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tive learning that include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Observ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sponding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oals for today’s workshop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come familiar with the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velop understanding of proactive discipline strategies: Teacher Language, Interactive Modeling, and Morning Meet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resources to further develop understanding of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earch that supports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. Jensen (2005):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commends that teachers actively engage students, provide them, with interesting practice or repetition to learn skill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. Bandura (197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pports the idea that humans (and children) develop behaviors when they pay attention to a model, can retain and imitate what they see, and receive feedback about their behavi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.J. Marzano (200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mmarizes research on effective teaching practices, including the power of stopping during demonstrations to ask students for their observations or when practicing a procedural skil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y Interactive Modeling Work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learn why the routine or skill is importan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create a clear image of what’s expect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do the noticing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have the chance to practice and gain expertis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receive immediate feedback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can be used to teach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outin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s for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scribe a positiv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students what they notic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Volunteers 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peat step 3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practice—teacher observes &amp; coaches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Video Clips of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choose a partn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go to timeout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sit in a circ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use scissors safel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ossible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assroom Routines-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sponding to signal for quiet, where/how to sit, showing what active listening looks like, signaling a desire to speak during a discussion, chatting with a partner, what to do if you need help, independent work time routin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ransition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utting/taking materials away/out, reading/interacting with the Morning Message, handling homework, signing up for lun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rking with supplies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ath manipulatives, 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Journeys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small group readers, colored pencils, scissor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cademic/Social Skill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sk questions, partner chat, head one’s paper, fill out/check an answer, take note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e the book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Interactive Modeling: A Powerful Technique for Teaching Children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     by: Margaret Wilso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lanning Guide for 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y is this behavior or skill importan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’s the learning goal for students- what do you want them to be able to do as a result of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introduce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exactly will you model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details do you want students to notice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coach students as they practice?  What things might go wrong and how will you respond if they do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materials or additional support (if any) do you need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follow up with this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teractive Modeling Planning Shee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y Bonn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sea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,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,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osing Circl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is something you learned tonight that you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nt to take back to your own classroom?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enter for Responsive Schools Websit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Youtube Chann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rew Moral: amoral@crsd.or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roduction to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esponsive Classroom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7 Guiding Principles of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hree R’s Teacher Languag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eractive Modeling demonstration &amp; applica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losing Circ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orning Meet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6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et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ust Like Me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har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favorite movie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ands u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Hands Up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ands up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2013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onna nam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me _____ / /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(Categories such as rivers, states, animals, etc.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e apiec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repeats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hesit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duplic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tarting with 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ess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16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ar Teachers,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 am excited to join you this evening and look at som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practices with you.  What is on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C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practice you have heard about or currently use in your teaching practic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 hope you leave tonight with some ideas you can implement right away in your teaching assignment!  Let’s have a great evening together!!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- And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roduction to </a:t>
            </a:r>
            <a:br>
              <a:rPr sz="4400"/>
            </a:b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is th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approach?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9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does it look like in a school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12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professional development services are availabl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5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uiding Principles of </a:t>
            </a: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cial curriculum = academic curriculum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children learn = what they lear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atest cognitive growth occurs through social intera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R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the children = knowing the conten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families is essential to children’s educ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adults work together = individual competen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1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541520" y="228600"/>
            <a:ext cx="60609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35:13Z</dcterms:created>
  <dc:creator>lynn</dc:creator>
  <dc:description/>
  <dc:language>en-US</dc:language>
  <cp:lastModifiedBy>Moral, Andrew</cp:lastModifiedBy>
  <cp:lastPrinted>2015-03-12T17:58:50Z</cp:lastPrinted>
  <dcterms:modified xsi:type="dcterms:W3CDTF">2015-03-12T18:17:05Z</dcterms:modified>
  <cp:revision>55</cp:revision>
  <dc:subject/>
  <dc:title>Responsive Classroom</dc:title>
</cp:coreProperties>
</file>